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369A-5CFD-4BBB-8E0A-0345D842D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function of the kidney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ifferent organs in the urinary system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responsible for filtration, reabsorption, and secretion of ur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ests of urinary tract disorders include culture and sensitivity tests, radiologic tests, and biopsies of le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ach of these procedures used to detect? (determine antibiotic therapy, visualize structural abnormalities, determine malignancy of lesions, respective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symptoms usually indicates an accumulation of waste products in the blood and electrolyte imbalance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pathology might be present with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ses resolve within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most often in children and adolesc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welling and inflammation of the glomerulus decreases the blood’s filtration rate and causes the body to retain water and sa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hypertension result from acute glomerulonephrit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sodium restricted in the treatment of acute glomeru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glomerulonephritis progressively destroys the glomer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e glomeru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kidneys fail to remove urea from the blood (azotemia), the body excretes urea through sweat glands, causing tiny crystals to form on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se crystals call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tient also experiences fatigue, malaise, nausea and vomiting, severe itching (pruritus), and difficulty breathing (dyspne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specific physiological processes cause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dialysis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odialysis can take place in either a patient’s home or in a medical fac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fistula is established and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how the fistula is both the exit for the unclean blood and entry point for the cleansed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ours per week does the average dialysis patient undergo di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ternative site for a fistul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peritoneal membrane located in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peritoneal dialy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djustments would be necessary in order to maintain the dialysis schedu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d to choose between hemodialysis and peritoneal dialysis, which would you choose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each type of dialysis affect quality of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kidney transplants each year than any other organ transplant surgery, with many on waiting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screening and evaluation of both donor and recipient are performed to offer a compatible match and the best possible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tic syndrome is caused by the excessive loss of prote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lost protein go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water and sodium be retained? (diminished glomerular filt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ffects of increased water and sodium retention? (hypertension and ede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dition can follow an attack of glomerulonephritis, exposure to certain toxins or drugs, pregnancy, or a kidney trans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things that can lead to nephrotic syndrome? (diabetes, certain infections, allergic reac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dition can follow an attack of glomerulonephritis, exposure to certain toxins or drugs, pregnancy, or a kidney trans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things that can lead to nephrotic syndrome? (diabetes, certain infections, allergic reac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women, diabetics, and people with certain infections and allergic reactions should be monitored for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hould urine output be monit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types of things qualify as nephrotoxic ag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n acute uremic episode dangero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ust a patient do if acute renal failure occu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considered an emergen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renal damage can be prevented by controlling exposure to nephrotoxic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during metabolic acido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infections common in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oss of nephrons diminish kidney fun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presence of hypertension and edema in chronic renal failure represent? (retention of flu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lood in the urine (hematuria)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auses of chronic renal failure? (primary disease or infections of the kidney such as glomerulonephritis, pyelonephritis, etc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renal failure is often the end stage of chronic renal dis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hronic renal failure be cu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elonephritis is usually caused by an infection, pregnancy , or renal calculi (sto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 the most common type of renal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ymptoms have a rapid ons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symptoms? (foul-smelling urine, which may contain blood and pus, and tender pubic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s are prone to infection when urine is obstructed by kidney stones, tumors or an enlarged pro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static urine significantly increase the risk of infe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eant by a “clean-catch urine specime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n accurate diagnosis be made with only a urin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omen prevent pyelonephritis? (empty bladder after intercourse, increase fluid intake, front-to-back wiping of fecal mat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increased fluid intake help prevent pye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nal pelvis? (a funnel-shaped outlet of the kidney into which urine is discharged before passing into the ure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truction of urine could be caused by kidney stones, tumor, inflammation stemming from infection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blockage of urine by calculi before it enters the ure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story of kidney stones is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ten the right kidney is affected by hydronephrosis, but it can be ei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on may occur when radiographic or ultrasonography is used on the abdomin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nephrostomy tube? (tube inserted into the renal pelvis to drain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obstruction has been removed, kidneys may return to normal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lifestyle factors help prevent kidney stones? (modifications to diet, exercise, and increased fluid int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ommon symptoms of kidney st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stones can occur singly or in mult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can go unnoti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the stones cause blee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a kidney stone is considered an emergency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kidney stones is greatest in males between the ages of 30 and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and size of the stone largely determines the type of treat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pain associated with kidney ston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the ureteroscope and cystoscope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lithotripsy and laser lithotripsy break the stone into smaller pieces that can pas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moval of the stone is r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for recovery is good after stone passes or is removed, but return of stone formation i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pecific foods should one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advise a person with kidney stones who consumes a number of these foods on a regular ba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ieticians also recommend limiting calcium in the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often experiences a strong urge to urinate frequently due to the inflammation and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ymptoms require prompt att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burning sensation during urin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increase a person’s susceptibility to these forms of bacter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rtant for women to void after sexual intercourse and wipe from front to back after elimin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us cystitis and urethritis respond well to anti-infective drug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increased fluid intake be part of the trea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type 1 and type 2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atients with diabetes who have elevated glucose levels and high blood pressure are at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nephropathy is irrever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w-protein and low-fat diet may also be recomm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balanced fluid intake and output be important for this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diabetic nephropathy often lead to? (end-stage renal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sts develop on both sides of the kidney and significantly increase its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 cysts lead to renal failure? (compress the kidney and impair renal fun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are autosomal recessive polycystic kidney disease and the autosomal dominant form of the dis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sts develop from dilated nephrons and collecting 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fully understood why the cys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cystic kidney disease is often inherited, but may not be diagnosed until adolescence or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it take so long to diagnose this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orm of acquired (noninherited) polycystic kidney disease, but it is more r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person with a family history of this condition prepare for its developm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neurogenic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difficulty in emptying a bladder cause incontine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neurogenic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difficulty in emptying a bladder cause incontine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ability to empty the bladder as well as incontinence are stressful for both the patient and those closest to him or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think most people respond to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amples of causes of neurogenic bladder? (Tumors, cerebrovascular accident, spinal cord trauma, neuropathies, herniated lumbar d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no 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of the condition is emphas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 therapy may be helpful to som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quality of life be affected with a neurogenic blad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occurs when increased abdominal pressure forces urine thought the bladder sphin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on tasks or responses in daily life increase abdominal pressure and may cause leakage of urine in those with stress incontin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is more common in older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n older adult deal with episodes of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collagen injections help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are helpful for som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ercises and how are they per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ommon facto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verage person confuse the two condi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 distinguishes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overactive bladd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al cell carcinoma is more common in men between the ages of 50 and 7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st rates of renal cell carcinoma are found in the U.S. and Scandinav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than 10% of patients exhibit all three symptoms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tients have no symptoms until the disease is adv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editary factor is associated with a condition called Lindau’s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are prone to developing cysts and carcinomas in the kidneys and other area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knowledge of these risk factors affect the average pers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iopsy is usually not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maging using radiographic agents wor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work specifically with imaging the kidn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static renal cell carcinoma is usually resistant to surgical cure and to chemo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gle most important consideration for prognosis is stage at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five-year survival rate is 40% but jumps to 74-94% if diagnosed in the early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vival rate dramatically drops to less than 5% if diagnosed once tumors have metastas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support would a patient need if renal cell carcinoma is diagnosed in the advanced st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ssation of smoking is also highly recommended as a preventive mea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revious exposure to kidney radiation increase the risk of developing renal cell carcino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urothelium? (lines the surface of the bladder and the entire urinary tra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ing symptoms such as pain during urination, an urgency to void, and increased frequency may also b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nditions are characterized by blood in the urine? How can a clinician make an accurate diagn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ning of the bladder is exposed to potential carcinogens that are excreted in the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80% of cases are diagnosed in patients over age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males are most often af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occupations are at highest risk for exposure to environmental carcinog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 diagnosis is made, ultrasonography or a CT scan may be used to evaluate for metastatic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components of a full urological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 is the most important indicator of treatment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carcinoma appears outside the bladder, an optimistic prognosis becomes increasingly unlik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grade and well-differentiated tumors have a slower growth rate and better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person reduce susceptibility to bladder tum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ssentials of Human Diseases and Conditions 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aret Schell Fraz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ette Wist Drzymk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Urinary System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ists of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7440" y="1465200"/>
            <a:ext cx="4102200" cy="4156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rinary system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1 million per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le for filtration, reabsorption, and secretion of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urine to renal pelvis and then to ur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 function is usually determined by urinalysis and blood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esults demonstr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 filtration, absorption, and elimination of metabolic w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e fluid and electrolyt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alua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 and body 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k or low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urinary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r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mptoms of Urinary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 and swelling of the glomeruli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primary disease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develop secondarily to a systemic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follows a streptococcal bacterial infection of the throat or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tion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the Glomerulus in the Nephr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4275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the urine (proteinur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urin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n urine (hematur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(not always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if infection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uretics for edema and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ed sodium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osteroids (if immune reaction is suspec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ronic Glomerulonephr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lowly progressive, noninfectious disease that can result in irreversible renal damage and ren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seen in advanced stage kidney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glomerular filtration, which causes retention of uremic po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11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eases and Conditions of the Urinary System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: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a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iguria (slight or infrequent ur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otemia (an excess amount of nitrogen-bearing wastes in blo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ronic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aly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stage renal disease forces approximately one in every 10,000 people to use dialysis to filter wastes from their blood and urine. Without dialysis, these patients will eventually 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tula provides access to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s drawn out of the body and filtered using an artificial kidney (hemodialyz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sed blood is returned to th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7800" y="1465200"/>
            <a:ext cx="6323040" cy="3641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uses patient’s own peritoneal membrane as a filtering de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alysate solution passes into peritoneal membrane through permanent cathe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 diffuses existing wa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ted fluids are drained from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3440" y="1539720"/>
            <a:ext cx="6477120" cy="360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ambulatory peritoneal dialysis (CAP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gravity to aid dialysate solution in filtering process, thereby draining waste into a bag worn around w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about 15 minutes per session; repeated 3 to 4 times per day and once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cycling peritoneal dialysis (CCP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 machine that continuously cycles the dialysate and extracts the w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performed at night while patient sle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,000 people receive kidney transplants each year in the U.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5% are performed on patients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ad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ve 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merulonep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lantation requires immunosuppressive agents to prevent potential rejection of the or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lain how pathologic conditions of the urinary system threaten homeostasis and result in ill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lain the diagnostic value of uri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e the symptoms and signs of acute glomeru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cribe how immune mechanisms are suspected to be a causative factor of acute and chronic glomeru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26938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son 11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the lower membrane of the glomerul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to a number of renal diseases and other systemic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a group of symptoms; sometimes referred to as the protein-losing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ephrosi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dition caused by excessive loss of protein in the urine that results i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ed plasma protein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water and sodium r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usceptibility to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y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ffiness around e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a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hargy/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can reveal high levels of albumin, lipids in u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ary intake of protein is adjusted to glomerular filtration rate (GF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is lowered and diuretics used to control ed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output is monito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osteriods may help control proteinuria in some pat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oxic Agen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nts (methanol, carbon tetrachlor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vy metals (lead, arsenic, mercu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s (kanamycin, gentamic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steroidal anti-inflammatory drugs (NSAI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dinated radiographic contrast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neoplas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cellaneous compounds (acetaminoph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sonous mush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renal failure (ARF) is characterized by a sudden and severe reduction in renal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F qualifies as a clinical emergency because nitrogenous waste products quickly accumulate in blood causing an acute uremic epis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 or infrequent urination (olig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intestinal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ished blood flow to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renal damage to the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obstruction of urin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renal failure can lead to death if not treated promp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tinguish between hemodialysis and peritoneal dialy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hallmark sign of nephro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some nephrotoxic ag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acute renal failure is considered a clinical emergen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reatment measures for prolonging life of the patient with chronic renal fail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goal is to reverse the decreased renal function. This may be accomplish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fluid intake and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ng a high carbohydrate/low protein diet to avoid a protein imbalance (called metabolic acid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ing sodium and potassium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 may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ective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pt treatment can reverse renal failure and lead to complete re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from the gradual and progressive loss of neph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versible loss of rena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ual onset of waste buildup in blood (ur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504960"/>
            <a:ext cx="27432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hythm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weak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0760" y="3505320"/>
            <a:ext cx="403380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ceration of gastrointestinal muc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ir and skin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y breathing (dyspne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acid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54200"/>
            <a:ext cx="8001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—weakness, fatigue, and lethargy (due to an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uremic syndrome wors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go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prolong and improve quality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for dialysis or kidney transpla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ed dietary intake of protein and so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infective ag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emetics (to control nausea/vomi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ythropoietin (a protein to help combat anem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itriol (a form of vitamin D to strengthen bo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lammation of the renal pelvis and connective tissues of one or both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type of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onset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preceded by a 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results from bacteria migrating from the lower urinary tract to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eterization or diagnostic procedures such as cystoscopy can introduce organisms into the urinary b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are at greater risk for developing pye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made by assessing clinical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graphic studies indicating swollen or enlarged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lysis of a clean-catch urine specimen that indic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white and red blood ce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bacteria, pus and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antibiotics (penicillin or cephalosporin) for 7 to 10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fluid intake to dilute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detection and prompt treatment usually leads to full re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etiology and diagnosis of pyelonephrit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ydronephro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common symptoms of renal calculi, and list possible com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normal dilation of the renal pelvis caused by pressure from urine that cannot flow past an obstruction in the urinary 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condition that can gradually destroy 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4243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ue backache or diminished urine output sometimes notic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without pain or symp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infection may bring fever, chills, blood and/or pus in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on is often accid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upon the cause of the obstruction and duration of cond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intervention possible if discovered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ion of nephrostomy tube if surgical intervention not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condition persists for more than 2 months, kidney function usually c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nes in the kidney or in the urinary tract formed by the concentration of mineral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nes form as a result of excessive calcium or uric acid in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465200"/>
            <a:ext cx="69343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pain in flank area (renal col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the urine (hemat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dis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nephrosis may result if urine is prevented from flowing past calcu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between 30 and 60 years of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ary stasis from ob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kidney stone and treating pain/infection are primary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 therapy is given for 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tones (3mm or less) may be allowed to pass naturally with increased fluid int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may be used to dissolve some st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procedures for remov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h stones into smaller pieces using conventional or laser lithotri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and remove stone using a ureteroscope or cyst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co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rocedures mentioned previously fail to remove calculi, surgical incision into kidney may be necessary to remove stone before permanent damage occ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causes of infectious cystitis and urethrit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diabetic neph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st neurogenic bladder with stress incontin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olycystic kidney, and discuss the treatment o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 at least eight glasses of water a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regula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foods high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a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26938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pter 11</a:t>
            </a:r>
            <a:br>
              <a:rPr sz="2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son 11.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us cyst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inary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ethr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eth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are common forms of urinary tract inf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urination with burning sensation and discoloration (dark yellow, pink, or 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in the pelvic region and low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sm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 coli (most comm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udom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ly transmitted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ion caused by chemotherapy or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penicillin derivatives are used to treat complex cystitis) for 3 to 5 days for uncomplicated cases and 7 to 10 days for recurring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emptying of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renal changes (called glomerulosclerosis) that result from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with type 1 diabetes (and many with type 2 diabetes) will eventually develop renal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tract infections and pyelonephritis are common com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co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fluid intake and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ing for patient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dialysis or kidney transplant as part of long-term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ose most at risk for renal cell carcinoma and bladder tum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and describe symptoms of renal cell and bladder carcin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ly progressive, irrevers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enal tissue replaced with multiple grape-like cy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814480" cy="4525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br>
              <a:rPr sz="36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br>
              <a:rPr sz="4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e to renal infection and kidney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br>
              <a:rPr sz="36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lysis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graphic films sh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larged kidneys with irregular out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function of the urinary bladder that causes difficulty emptying the bladder or urinary incon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ary by ca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-related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sitancy and decreased volume of urine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retention due to absence of stimuli to v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par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bladder sensation but unable to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nhibited neurogenic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incontinence of small amounts of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cont’d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x neurogenic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sensation to void is absent—replaced by bladder contractions that cause spontaneous spurts of u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ous neurogenic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ensations and contractions to void are absent, so pressure must be applied to pubic area to initiate voi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jury to the brain, spinal cord, or nerves connecting the lower urinary tract may result in an inability to empty bladder or maintain contin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goal—intervention to prevent urinary tract infections and restore some normal fun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me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heterization (intermittent or continuous)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 quality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collection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trollable leakage of small amounts of urine from the bladder during physical exertion or actions that stress the pelvic muscle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6938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pter 11</a:t>
            </a:r>
            <a:br>
              <a:rPr sz="2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son 11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ening of the pelvic floor muscles and urethral structure, often attribut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 from childbi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from an existing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al changes associated with aging/meno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o strengthen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ogen replacement (estrogen cre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gen in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vs. Stress Incontine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6720" y="1465200"/>
            <a:ext cx="38149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emptying bladder or incon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damaged nerves to lower urinary 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ure, but quality of life can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6360" y="1464840"/>
            <a:ext cx="374184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incon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leaking of urine during common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weakened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can be improved and possibly cu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common form of renal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r more malignant tumors develops in one or both 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ms tumor: congenital tumor seen in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cer of the renal pel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ly high concentration of calcium in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lysis patients with cystic kidne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 exposure to chemicals such as asbestos and cadm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CT s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 of kidney using radiographic 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moval of diseased kidney (nephrectomy) is the preferred interven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with small tumors or only one functional kidney may undergo a partial nephrecto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otherapy may be helpful for s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urinalysis and abdominal ultrasound indicated for people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history of renal cell carcino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dau’s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exposure to kidney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-stage renal disease with 3 to 5 years or more of di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der growths (tumors) are usually found in the bladder, but may appear anywhere along the urotheli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rinary tract is responsible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ing, storing, and excreting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sing the blood of wast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ng the water, salts, and acids in the body fluids to ensure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ly Func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 (intermittent, painless) is 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in flank or pubic area as carcinoma becomes advanced or metastatic, along with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 lo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rex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exposure to carcinogens is thought to account for mo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pational exposure to aniline dyes or diesel exha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garette 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prior bladder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esence of otherwise unexplained blood in the urine in a person over age 40 indicates cancer in the urinary tract until proven otherw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ull urological evaluation is indic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initial treatment is surgical removal of the bladder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tumors recur within 12 month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rent tumors are treated similar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recurrences may require removal of part or all of the urinary blad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atients with metastatic carcinoma, multidrug chemotherapy may help shrink tumor and increase survival time, but is not a 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azhagubalan</cp:lastModifiedBy>
  <cp:lastPrinted>2004-12-10T16:56:32Z</cp:lastPrinted>
  <dcterms:modified xsi:type="dcterms:W3CDTF">2008-01-31T10:35:34Z</dcterms:modified>
  <cp:revision>100</cp:revision>
  <dc:subject/>
  <dc:title>PowerPoint Presentation</dc:title>
</cp:coreProperties>
</file>